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0.png" ContentType="image/png"/>
  <Override PartName="/ppt/media/image5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A063-8EE5-4FA2-9F5C-A1495E943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6466-283D-4BFE-86AC-7D9B9D445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6401-5566-45BB-8A62-17D245EFF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 establishes the need for student to be proficient in reading complex informational text independently in a variety of content areas. Most college and workforce training programs is informational in structure and challenging in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EP requires high and increasing proportion of informational text on its assess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15CA-D66C-4BB6-B403-7EE7199E6F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599B-9C5A-4271-A409-768F8F206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89E7-DAC9-41B2-A0F5-02E0EFBC3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demand a greater focus o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al text literary non fi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focus in 6-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F0E8-EAC4-4855-821E-17550ACAA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s of an effective comprehensive read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proficient readers  with the capacity to comprehend text across a range of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ndix A pg 17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E95B-B259-4482-ACAA-C1C8C3ED2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D509-E148-44A5-A744-954C150B1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5059-3F2F-452A-95BE-A12B9F7E8A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AA94-D5C6-4EF7-910F-B631D23289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Analyze givens, constraints, relationships and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250B-62F6-4354-BD36-20269CD1D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F9CB-5B5A-4EDC-A557-0F72D862B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22AA-49B7-4405-A1F2-0E545F4828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8DE0-E5EC-4B0D-9743-0C2655775A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02D2-259E-4A09-B5CE-E93859058D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F32F-630D-4CB4-81D7-8C8489CD26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4F82-59AE-4655-BA37-83B16B0FB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2AA1-3946-4FEA-A0B0-972EF1FE3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A88E-31B9-45DA-9775-15C6CAC4A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31A5-DB07-4F1B-8F4E-D4CB838A4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B3AB-B18C-4105-B8D9-0577CF245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4142-D066-487A-BDF5-EE682468E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A22B-4C45-4C05-A474-A13668F29C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achievement leaves room for teachers, curriculum developers and states to determine how those goals should be reached and what additional topics should be ta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s are free to provide students with what ever tools their professional judgment and experience identify as most help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020A-82AE-4AB9-8545-F2B135B51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3162-C2A5-4DB7-997A-15004438D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5F1E-822D-4386-88E4-423B8D77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35F4-33EF-4C26-8B1B-BB55B710C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65A8-6074-4C71-B51F-2A6DAC927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FA89-3C4B-412A-B77A-5930EEF3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80A7-434B-4B5D-8C5A-60ACC226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8CAA-AD8C-40BC-9A3C-A642D7A8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17E6-F46E-4E95-ACFB-2AC062F7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1376-7E12-4BE9-A76B-8B96D5B6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886C-0883-4492-A29A-D23ABC00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C4A2-F7F3-4FAE-BC6E-AEF5FA86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C1F9-AD7F-41A9-9A73-D7AF064D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89FD-A760-4847-B22B-1CDAF550F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914040"/>
            <a:ext cx="7620120" cy="19810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ications of the Common Core State Standards                                    and Next Generation Assessm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ue Gendron,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icy Coordinator, SMARTER Balanced Assessment Consortium                     and Senior Fellow, 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057040" y="3200400"/>
            <a:ext cx="4800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ear this webinar you will need to choose your audio mo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the control panel in the upper right corner of your screen and click the button of how you will be listening. Your choi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266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eleph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266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mic &amp; spea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If using mic &amp; speak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ake sure your volume is turned up so you can h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If using the telephone</a:t>
            </a: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l: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16-233-308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ss Cod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387-502-78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o PIN: unique PIN shown in audio control panel on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Technical difficulties? Contact (518) 399-2776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7632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5410080" y="120600"/>
            <a:ext cx="426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ww.LeaderEd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304920" y="632448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All participants are on mu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5" descr="Susan Gendron Photo"/>
          <p:cNvPicPr/>
          <p:nvPr/>
        </p:nvPicPr>
        <p:blipFill>
          <a:blip r:embed="rId2"/>
          <a:srcRect l="0" t="6072" r="0" b="11953"/>
          <a:stretch/>
        </p:blipFill>
        <p:spPr>
          <a:xfrm>
            <a:off x="7335720" y="685800"/>
            <a:ext cx="18082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3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and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ege and Career Readiness (CC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chor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 expectations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t acro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es and cont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college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force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ge and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k-5 reading standards"/>
          <p:cNvPicPr/>
          <p:nvPr/>
        </p:nvPicPr>
        <p:blipFill>
          <a:blip r:embed="rId1"/>
          <a:stretch/>
        </p:blipFill>
        <p:spPr>
          <a:xfrm>
            <a:off x="5276880" y="1523880"/>
            <a:ext cx="3608280" cy="4370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Logo-with-Band-Stretch-smal"/>
          <p:cNvPicPr/>
          <p:nvPr/>
        </p:nvPicPr>
        <p:blipFill>
          <a:blip r:embed="rId2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80520" y="16761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rehension (standards 1−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ndards for reading literature and informational tex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ong and growing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cross-the-curriculu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mphasi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ents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bility to read and comprehend informational tex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igned with NAEP Reading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ange of reading and level of text complexity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standard 10, Appendices A and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ircase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growing text complexity across gr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-quality literature and informational texts in a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genres and subgen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llege and Career Readiness Standards for Reading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y Ideas and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Rea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ly to determine what the text says explicitly and to make logical inferences from it; cite specific textual evidence when writing or speaking to support conclusions drawn from the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rm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entral ideas or themes of a text and analyze their development; summarize the key supporting details and id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y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ow and why individuals, events, and ideas develop and interact over the course of a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llege and Career Readiness Standards for Reading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aft and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terpre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ds and phrases as they are used in a text, including determining technical, connotative, and figurative meanings, and analyze how specific word choices shape meaning or t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y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structure of texts, including how specific sentences, paragraphs, and larger portions of the text (e.g., a section, chapter, scene, or stanza) relate to each other and the who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ow point of view or purpose shapes the content and style of a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llege and Career Readiness Standards for Reading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2739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gration of Knowledge and Id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273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2739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grate and evaluat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ent presented in diverse media and formats, including visually and quantitatively, as well as in wor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273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2739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*8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lineate and evaluat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rgument and specific claims in a text, including the validity of the reasoning as well as the relevance and sufficiency of the evide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273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2739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.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alyz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how two or more texts address similar themes or topics in order to build knowledge or to compare the approaches the authors tak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ege and Career Readiness Standards for Rea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ge of Reading and Level of Text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.Read and comprehe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x literary and informational tex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ly and profici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ding Framework for NAEP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62120" y="2217600"/>
          <a:ext cx="7543800" cy="2976840"/>
        </p:xfrm>
        <a:graphic>
          <a:graphicData uri="http://schemas.openxmlformats.org/drawingml/2006/table">
            <a:tbl>
              <a:tblPr/>
              <a:tblGrid>
                <a:gridCol w="2514600"/>
                <a:gridCol w="2514600"/>
                <a:gridCol w="2514600"/>
              </a:tblGrid>
              <a:tr h="79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er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orma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00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Complexity Ma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complexity of text in college, careers and everyday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ge textbooks have maintained levels or incre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scientific journal and magazine have increased between 1930 – 19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place reading exceeds grade 12 complexity significa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-12 texts have trended down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measured by Lex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ding Standards: Foundation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1447560"/>
            <a:ext cx="8629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categories (standards 1-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 concepts ( K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ological awareness (K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ics and word recognition (K-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uency (K-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n end in and of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ed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 what they need, not what they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ing Standa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lege and Career standards per grade level clustered under 4 areas that are consisten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xt Types and Purpo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ument ( to make people believe something is true or change their beliefs or behavi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de K-5: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inion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evidence/examp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de 6:  Claims/Evidence/Reasoning/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de 7-12: Claim/Evidence/Reasoning/Ref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tional / Explanatory (starts with the assumption of truthfulness and answer questions about why or how, aim is to make the reader understand rather then persuad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rrative (conveys experie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c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al 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duction and Distribution of Wri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arch to Build and Present Knowle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nge of Wri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Demi"/>
              </a:rPr>
              <a:t>Webinar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6370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participants are on mute during the entire webinar.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sentation portion will be 45 min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ions and Answers portion will be 15 minut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ask a question type it in the question control panel in the upper right corner of your screen.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ent questions will be answered in the order they were received at the end of the webinar present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will send you a follow up email with the PowerPoint presentation and helpful resour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ing Standa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0880" y="1447560"/>
            <a:ext cx="8553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xt Types and Purpo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rite arguments to support claims in an analysis of substantive topics or texts, using valid reasoning and relevant and sufficient evide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rite informative/explanatory texts to examine and convey complex ideas and information clearly and accurately through the effective selection, organization, and analysis of cont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rite narratives to develop real or imagined experiences or events using effective techniques, well-chosen details, and well-structured event sequen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ing Standa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240" y="1447560"/>
            <a:ext cx="870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duction and Distribution of Wri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e clear and coherent writing in which the development, organization, and style are appropriate to task, purpose, and audie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 and strengthen writing as needed by planning, revising, editing, rewriting, or trying a new approa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echnology, including the Internet, to produce and publish writing and to interact and collaborate with oth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ing Standa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5235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search to Build and Present Knowled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duct short, as well as more sustained research projects based on questions, demonstrating understanding of the subject under investig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ther relevant information from multiple print and digital sources, assess the credibility and accuracy of each source, and integrate the information while avoiding plagiaris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aw evidence from literary or informational texts to support analysis, reflection, and resear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ing Standa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560" y="1447560"/>
            <a:ext cx="8629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ange of Wri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rite routinely over extended time frames (time for research, reflection, and revision) and shorter time frames (a single sitting or a day or two) for a range of tasks, purposes, and audien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EP 2011 Writing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80880" y="1930320"/>
          <a:ext cx="8382240" cy="2927520"/>
        </p:xfrm>
        <a:graphic>
          <a:graphicData uri="http://schemas.openxmlformats.org/drawingml/2006/table">
            <a:tbl>
              <a:tblPr/>
              <a:tblGrid>
                <a:gridCol w="2095560"/>
                <a:gridCol w="2130480"/>
                <a:gridCol w="2060640"/>
                <a:gridCol w="2095560"/>
              </a:tblGrid>
              <a:tr h="106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Persu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Expl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Convey Experi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24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ing Standards/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560" y="1447560"/>
            <a:ext cx="8629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G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Participate in shared research and writing projects (e.g., explore a number of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-to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ooks on a given topic and use them to write a sequence of instruc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G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Conduct short research projects that build knowledge about a top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ing Standards/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28240" y="1447560"/>
            <a:ext cx="870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de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. Conduct short research projects that use several sources to build knowledge through investigation of different aspects of a topi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de 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. Conduct short research projects to answer a question, drawing on several sources and generating additional related, focused questions for further research and investigatio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. Gather relevant information from multiple print and digital sources, using search terms effectively; assess the credibility and accuracy of each source; and quote or paraphrase the data and conclusions of others while avoiding plagiarism and following a standard format for cit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70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ing Standards/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240" y="1447920"/>
            <a:ext cx="8697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de 9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uct short as well as more sustained research projects to answer a question (including a self-generated question) or solve a problem; narrow or broaden the inquiry when appropriate; synthesize multiple sources on the subject, demonstrating understanding of the subject under investig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Gather relevant information from multiple authoritative print and digital sources, using advanced searches effectively; assess the usefulness of each source in answering the research question; integrate information into the text selectively to maintain the flow of ideas, avoiding plagiarism and following a standard format for cit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Draw evidence from literary or informational texts to support analysis, reflection, and research. Appl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rades 9–10 Reading standards to literature (e.g., 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alyze how an author draws on and transforms source material in a specific work [e.g., how Shakespeare treats a theme or topic from Ovid or the Bible or how a later author draws on a play by Shakespeare]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. Apply grades 9–10 Reading standards to literary nonfiction (e.g., 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lineate and evaluate the argument and specific claims in a text, assessing whether the reasoning is valid and the evidence is relevant and sufficient; identify false statements and fallacious reasoning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70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aking and List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28240" y="1447560"/>
            <a:ext cx="870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rehension and Collabo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Range of conversations and collaborations,  diverse partners, building on others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deas and expressing their own clearly and persuasive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Integrate and evaluate information presented in diverse media and formats, including visually, quantitatively, and oral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 Evaluate a speaker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 point of view, reasoning, and use of evidence and rhetori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70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aking and List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8240" y="1447560"/>
            <a:ext cx="870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tation of Knowledge and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resent information, findings, and supporting evidence such that listeners can follow the line of reasoning and the organization, development, and style are appropriate to task, purpose, and audi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Make strategic use of digital media and visual displays of data to express information and enhance understanding of present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Adapt speech to a variety of contexts and communicative tasks, demonstrating command of formal English when indicated or appropria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s Development Char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-based effort to fulfill the charge issued by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the next generation of K-12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students college and career ready in literacy and mathem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later than end of high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upon the foundation laid by the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vision of what it means to be a literate student in the twenty-first cen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7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ntions of Standard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writing or spea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 capitalization, punctuation, and spelling when wri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nowledge of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mprehend more fully when reading or liste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bulary Acquisition and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Determine or clarify the meaning of unknown and multiple-meaning words and phrases by using context clues, analyzing meaningful word part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Demonstrate understanding of figurative language, word relationships, and nuances in word mean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Acquire and use accurately a range of general academic and domain-specific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ing Standards for Literacy in History/Social Studies, Science and Technical Subjects 6-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7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2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ading critical to building knowled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2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ppreciation for the norms and conven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2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vide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2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nderstanding of domain specific wor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2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alyze, evaluate intricate argument, synthesiz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2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mplement the disciplin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440" y="312372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NDARDS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1981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Logo-with-Band-Stretch-smal"/>
          <p:cNvPicPr/>
          <p:nvPr/>
        </p:nvPicPr>
        <p:blipFill>
          <a:blip r:embed="rId2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h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iculated progressions of topics and performances that are developmental and connected to other prog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ual understanding and procedural skills stressed eq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CTM stat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her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so means that instruction, assessment, and curriculum are alig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12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ideas, understandings, and skills are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learning of concepts is str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adequate time is devoted to a topic and learning it well.  This counters the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e wide, inch dee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riticism leveled at most current U.S. standa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arity and Specif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lls and concepts are clearly def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bility to apply concepts and skills to new situations is exp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CSS Mathematical Prac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mon Core proposes a set of Mathematical Practices that all teachers should develop in their students.  These practices are similar to the mathematical processes that NCTM addresses in the Process Standard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inciples and Standards for School Mathemat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04560" y="1447560"/>
            <a:ext cx="8629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6880" indent="-514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ake sense of problems and persevere in solving th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96880" indent="-514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ason abstractly and quantitative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96880" indent="-514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truct viable arguments and critique the reasoning of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96880" indent="-514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del with mathematic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96880" indent="-514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appropriate tools strategical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96880" indent="-514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ttend to precis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96880" indent="-514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ook for and make use of structu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96880" indent="-514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ook for and express regularity in repeated reason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80880" y="1447560"/>
            <a:ext cx="8553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s for Mathematical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y across all grade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habits of a mathematically expert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s for Mathematical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-8 presented by grad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ed into domains that progress over several gr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e introductions give 2-4 focal points at each grad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school standards presented by conceptual theme (Number &amp; Quantity, Algebra, Functions, Modeling, Geometry, Statistics &amp; Prob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de 1 Focus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560" y="1447560"/>
            <a:ext cx="8629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understanding of addition, subtraction, and strategies for addition and subtraction within 2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688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understanding of whole number relationships and place value, including grouping in tens and on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688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understanding of linear measurement and measuring lengths as iterating length units;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688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soning about attributes of, and composing and decomposing geometric sha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Core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ly 48 states and three territories signed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Standards released June 2,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of today, 35 states have officially ado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cipate another 10 by Janu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772400" cy="10287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Logo-with-Band-Stretch-smal"/>
          <p:cNvPicPr/>
          <p:nvPr/>
        </p:nvPicPr>
        <p:blipFill>
          <a:blip r:embed="rId2"/>
          <a:stretch/>
        </p:blipFill>
        <p:spPr>
          <a:xfrm>
            <a:off x="0" y="15228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rade Level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7315200" cy="4370400"/>
          </a:xfrm>
          <a:prstGeom prst="rect">
            <a:avLst/>
          </a:prstGeom>
          <a:ln w="0">
            <a:noFill/>
          </a:ln>
        </p:spPr>
      </p:pic>
      <p:grpSp>
        <p:nvGrpSpPr>
          <p:cNvPr id="172" name="Rounded Rectangular Callout 5"/>
          <p:cNvGrpSpPr/>
          <p:nvPr/>
        </p:nvGrpSpPr>
        <p:grpSpPr>
          <a:xfrm>
            <a:off x="5688000" y="4754520"/>
            <a:ext cx="2608200" cy="1219320"/>
            <a:chOff x="5688000" y="4754520"/>
            <a:chExt cx="2608200" cy="1219320"/>
          </a:xfrm>
        </p:grpSpPr>
        <p:pic>
          <p:nvPicPr>
            <p:cNvPr id="173" name="Rounded Rectangular Callout 5" descr=""/>
            <p:cNvPicPr/>
            <p:nvPr/>
          </p:nvPicPr>
          <p:blipFill>
            <a:blip r:embed="rId2"/>
            <a:stretch/>
          </p:blipFill>
          <p:spPr>
            <a:xfrm>
              <a:off x="5688000" y="4754520"/>
              <a:ext cx="26082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5899320" y="5288040"/>
              <a:ext cx="23112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Segoe"/>
                </a:rPr>
                <a:t>Critical Area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Left Arrow 6"/>
          <p:cNvSpPr/>
          <p:nvPr/>
        </p:nvSpPr>
        <p:spPr>
          <a:xfrm>
            <a:off x="7238880" y="1752480"/>
            <a:ext cx="1905120" cy="1600200"/>
          </a:xfrm>
          <a:prstGeom prst="leftArrow">
            <a:avLst>
              <a:gd name="adj1" fmla="val 50000"/>
              <a:gd name="adj2" fmla="val 50003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ross- Cutting The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Logo-with-Band-Stretch-smal"/>
          <p:cNvPicPr/>
          <p:nvPr/>
        </p:nvPicPr>
        <p:blipFill>
          <a:blip r:embed="rId3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0" y="1371600"/>
            <a:ext cx="6594480" cy="4527720"/>
          </a:xfrm>
          <a:prstGeom prst="rect">
            <a:avLst/>
          </a:prstGeom>
          <a:ln w="0">
            <a:noFill/>
          </a:ln>
        </p:spPr>
      </p:pic>
      <p:grpSp>
        <p:nvGrpSpPr>
          <p:cNvPr id="178" name="Rounded Rectangular Callout 8"/>
          <p:cNvGrpSpPr/>
          <p:nvPr/>
        </p:nvGrpSpPr>
        <p:grpSpPr>
          <a:xfrm>
            <a:off x="6523200" y="652320"/>
            <a:ext cx="2296800" cy="1043280"/>
            <a:chOff x="6523200" y="652320"/>
            <a:chExt cx="2296800" cy="1043280"/>
          </a:xfrm>
        </p:grpSpPr>
        <p:pic>
          <p:nvPicPr>
            <p:cNvPr id="179" name="Rounded Rectangular Callout 8" descr=""/>
            <p:cNvPicPr/>
            <p:nvPr/>
          </p:nvPicPr>
          <p:blipFill>
            <a:blip r:embed="rId2"/>
            <a:stretch/>
          </p:blipFill>
          <p:spPr>
            <a:xfrm>
              <a:off x="6523200" y="652320"/>
              <a:ext cx="2296800" cy="10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6891480" y="719280"/>
              <a:ext cx="183816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Segoe"/>
                </a:rPr>
                <a:t>Grade Level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Rounded Rectangular Callout 9"/>
          <p:cNvGrpSpPr/>
          <p:nvPr/>
        </p:nvGrpSpPr>
        <p:grpSpPr>
          <a:xfrm>
            <a:off x="3303720" y="1542960"/>
            <a:ext cx="5516280" cy="1724040"/>
            <a:chOff x="3303720" y="1542960"/>
            <a:chExt cx="5516280" cy="1724040"/>
          </a:xfrm>
        </p:grpSpPr>
        <p:pic>
          <p:nvPicPr>
            <p:cNvPr id="182" name="Rounded Rectangular Callout 9" descr=""/>
            <p:cNvPicPr/>
            <p:nvPr/>
          </p:nvPicPr>
          <p:blipFill>
            <a:blip r:embed="rId3"/>
            <a:stretch/>
          </p:blipFill>
          <p:spPr>
            <a:xfrm>
              <a:off x="3303720" y="1542960"/>
              <a:ext cx="5516280" cy="17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891480" y="2548080"/>
              <a:ext cx="1838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Segoe"/>
                </a:rPr>
                <a:t>Domain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Picture 4" descr="Logo-with-Band-Stretch-smal"/>
          <p:cNvPicPr/>
          <p:nvPr/>
        </p:nvPicPr>
        <p:blipFill>
          <a:blip r:embed="rId4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ctions, Grades 3–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-463680">
              <a:spcBef>
                <a:spcPts val="55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 Develop an understanding of fractions as numb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spcBef>
                <a:spcPts val="55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 Extend understanding of fraction equivalence and order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spcBef>
                <a:spcPts val="55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 Build fractions from unit fractions by applying and extending previous understandings of operations on whole numb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spcBef>
                <a:spcPts val="55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 Understand decimal notation for fractions, and compare decimal frac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spcBef>
                <a:spcPts val="55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. Use equivalent fractions as a strategy to add and subtract frac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spcBef>
                <a:spcPts val="55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. Apply and extend previous understandings of multiplication and division to multiply and divide frac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spcBef>
                <a:spcPts val="55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. Apply and extend previous understandings of multiplication and division to divide fractions by frac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stics and Probability, Grade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560" y="160020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understanding of statistical var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ognize a statistical question as one that anticipates variability in the data related to the question and accounts for it in the answers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 example, 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 old am I?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s not a statistical question, but 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 old are the students in my school?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s a statistical question because one anticipates variability in students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derstand that a set of data collected to answer a statistical question has a distribution which can be described by its center, spread, and overall sha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ognize that a measure of center for a numerical data set summarizes all of its values with a single number, while a measure of variation describes how its values vary with a single nu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gebra, Grade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ded ramp up to Algebra in Grade 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of operations, similarity, ratio and proportional relationships, rational number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cus on linear equations and functions in Grade 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s and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468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with radicals and integer expon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468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the connections between proportional relationships, lines, and linear eq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468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ze and solve linear equations and pairs of simultaneous linear eq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468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, evaluate, and compare fun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468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functions to model relationships between quant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8088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eptual themes in high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umber and 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geb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o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istics and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lege and career readiness thres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+) standards indicate material beyond the threshold; can be in courses required for all stud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61440" y="228240"/>
            <a:ext cx="878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S Path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28240" y="1447560"/>
            <a:ext cx="870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radition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US) – 2 Algebra, Geometry and Data, probability and statistics included in each 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tio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ntegrated) three courses including number , algebra, geometry, probability and statistics each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cted version of tradition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grade 7/8 and algebra completed by end of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cted integrated model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ing students to reach Calculus or other college level cour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 School -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ing mathematics and statistics to everyday life, work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of choosing and using appropriate mathematics and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1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y Adv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30592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us and coh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on key topics at each grade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herent progressions across grade lev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 of concepts and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 standards require both conceptual understanding and procedural flu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hematical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ster reasoning and sense-making in mathemat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ege and career read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is ambitious but achiev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are the Common Core State Standar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Aligned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with college and work expecta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Focused and coher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cluded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rigorou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content and application of knowledge through high-order skil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ild upon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strengths and lessons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f current state standar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Internationally benchmarked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 that all students are prepared to succeed in our global economy and socie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Research and evidence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as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State led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 coordinated by NGA Center and CCSS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versal Design for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90400" y="1447560"/>
            <a:ext cx="8172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al design for learning (UDL) is a set of principles for designing curriculum that provides all individuals with equal opportunities to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xt Generation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4 New assessments / PARCC and SMARTER Consorti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opportunities for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im/Benchmark, Formative and Sum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y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tion Planning 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Demi"/>
              </a:rPr>
              <a:t>Questions and Answers with S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3124080" y="2438280"/>
            <a:ext cx="563904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he end of the presentation por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mit questions at this time and stay on to hear the answ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are logging off,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thank yo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attending and we will email you with follow-up inform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5"/>
          <p:cNvSpPr/>
          <p:nvPr/>
        </p:nvSpPr>
        <p:spPr>
          <a:xfrm>
            <a:off x="609480" y="5791320"/>
            <a:ext cx="76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more information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www.LeaderEd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7" descr="Susan Gendron Photo"/>
          <p:cNvPicPr/>
          <p:nvPr/>
        </p:nvPicPr>
        <p:blipFill>
          <a:blip r:embed="rId2"/>
          <a:srcRect l="0" t="6072" r="0" b="11953"/>
          <a:stretch/>
        </p:blipFill>
        <p:spPr>
          <a:xfrm>
            <a:off x="152280" y="2057400"/>
            <a:ext cx="2743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2956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ing 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on Core State Standards and  Next Generation Assess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3" descr="Logo-with-Band-Stretch-smal"/>
          <p:cNvPicPr/>
          <p:nvPr/>
        </p:nvPicPr>
        <p:blipFill>
          <a:blip r:embed="rId1"/>
          <a:stretch/>
        </p:blipFill>
        <p:spPr>
          <a:xfrm>
            <a:off x="0" y="7632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4"/>
          <p:cNvSpPr/>
          <p:nvPr/>
        </p:nvSpPr>
        <p:spPr>
          <a:xfrm>
            <a:off x="1600200" y="3809880"/>
            <a:ext cx="525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8"/>
          <p:cNvSpPr/>
          <p:nvPr/>
        </p:nvSpPr>
        <p:spPr>
          <a:xfrm>
            <a:off x="3505320" y="2057400"/>
            <a:ext cx="541008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e Gendron, Senior Fellow, IC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427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rehensive Planning and Implementation Pro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427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fessional Development, Workshops, and Advis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427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 Building Awareness and Commitment                -  Building Leadership Capacity                      -  Strategic Review and Planning                    -  Curriculum Alig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2" descr="DSC04567"/>
          <p:cNvPicPr/>
          <p:nvPr/>
        </p:nvPicPr>
        <p:blipFill>
          <a:blip r:embed="rId2"/>
          <a:srcRect l="0" t="0" r="0" b="19149"/>
          <a:stretch/>
        </p:blipFill>
        <p:spPr>
          <a:xfrm>
            <a:off x="228600" y="1981080"/>
            <a:ext cx="3181320" cy="34290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43"/>
          <p:cNvSpPr/>
          <p:nvPr/>
        </p:nvSpPr>
        <p:spPr>
          <a:xfrm>
            <a:off x="3809880" y="518148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ing Soon! Resource K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4"/>
          <p:cNvSpPr/>
          <p:nvPr/>
        </p:nvSpPr>
        <p:spPr>
          <a:xfrm>
            <a:off x="991440" y="6140520"/>
            <a:ext cx="657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hank you for attending!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ww.LeaderEd.com 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(518) 399-2776 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nfo@LeaderEd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3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2"/>
          <p:cNvSpPr/>
          <p:nvPr/>
        </p:nvSpPr>
        <p:spPr>
          <a:xfrm rot="12682800">
            <a:off x="4210200" y="210600"/>
            <a:ext cx="4916160" cy="7315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982" y="783"/>
                  <a:pt x="4363" y="5080"/>
                  <a:pt x="4363" y="10800"/>
                </a:cubicBezTo>
                <a:cubicBezTo>
                  <a:pt x="4363" y="16520"/>
                  <a:pt x="12982" y="2081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3"/>
          <p:cNvSpPr/>
          <p:nvPr/>
        </p:nvSpPr>
        <p:spPr>
          <a:xfrm rot="20840400">
            <a:off x="0" y="304920"/>
            <a:ext cx="3429000" cy="6781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252" y="880"/>
                  <a:pt x="4903" y="5080"/>
                  <a:pt x="4903" y="10800"/>
                </a:cubicBezTo>
                <a:cubicBezTo>
                  <a:pt x="4903" y="16520"/>
                  <a:pt x="13252" y="2072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4343040"/>
            <a:ext cx="7467840" cy="1143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October 22-24, 2010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Washington, D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rcRect l="2172" t="3200" r="1300" b="4485"/>
          <a:stretch/>
        </p:blipFill>
        <p:spPr>
          <a:xfrm>
            <a:off x="914400" y="1992240"/>
            <a:ext cx="7243920" cy="23511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0" y="380520"/>
            <a:ext cx="9220320" cy="1676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entury Gothic"/>
              </a:rPr>
              <a:t>K-12 School Reinvention Symposium</a:t>
            </a: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mplications of the CC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7" descr="Logo-with-Band-Stretch-smal"/>
          <p:cNvPicPr/>
          <p:nvPr/>
        </p:nvPicPr>
        <p:blipFill>
          <a:blip r:embed="rId2"/>
          <a:stretch/>
        </p:blipFill>
        <p:spPr>
          <a:xfrm>
            <a:off x="0" y="624852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8"/>
          <p:cNvSpPr/>
          <p:nvPr/>
        </p:nvSpPr>
        <p:spPr>
          <a:xfrm>
            <a:off x="5867280" y="60958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LeaderEd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nashville"/>
          <p:cNvPicPr/>
          <p:nvPr/>
        </p:nvPicPr>
        <p:blipFill>
          <a:blip r:embed="rId1"/>
          <a:srcRect l="0" t="28992" r="0" b="32717"/>
          <a:stretch/>
        </p:blipFill>
        <p:spPr>
          <a:xfrm>
            <a:off x="12600" y="684360"/>
            <a:ext cx="9131400" cy="526068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9144000" cy="18288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ush Script Std"/>
              </a:rPr>
              <a:t>19</a:t>
            </a:r>
            <a:r>
              <a:rPr b="0" lang="en-US" sz="2000" spc="-1" strike="noStrike" baseline="30000">
                <a:solidFill>
                  <a:srgbClr val="ffffff"/>
                </a:solidFill>
                <a:latin typeface="Brush Script Std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Brush Script Std"/>
              </a:rPr>
              <a:t> Annual</a:t>
            </a:r>
            <a:br>
              <a:rPr sz="20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el Schools Co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752480" y="6094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June 26-29, 2011 -  Nashvil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0" y="5105520"/>
            <a:ext cx="9144000" cy="825480"/>
          </a:xfrm>
          <a:prstGeom prst="rect">
            <a:avLst/>
          </a:prstGeom>
          <a:gradFill rotWithShape="0">
            <a:gsLst>
              <a:gs pos="0">
                <a:srgbClr val="99cc00">
                  <a:alpha val="86274"/>
                </a:srgbClr>
              </a:gs>
              <a:gs pos="100000">
                <a:srgbClr val="5f5f5f"/>
              </a:gs>
            </a:gsLst>
            <a:lin ang="10800000"/>
          </a:gra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casing the nation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most successful practices for improving student achievement and growt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Logo-with-Band-Stretch"/>
          <p:cNvPicPr/>
          <p:nvPr/>
        </p:nvPicPr>
        <p:blipFill>
          <a:blip r:embed="rId2"/>
          <a:srcRect l="0" t="0" r="38806" b="0"/>
          <a:stretch/>
        </p:blipFill>
        <p:spPr>
          <a:xfrm>
            <a:off x="0" y="6219720"/>
            <a:ext cx="2895480" cy="5922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7"/>
          <p:cNvSpPr/>
          <p:nvPr/>
        </p:nvSpPr>
        <p:spPr>
          <a:xfrm>
            <a:off x="3505320" y="64008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www.ModelSchoolsConferenc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nefits for States and Distri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-4636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collaborative professional development to be based on best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he development of common assessments and other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comparison of policies and achievement across states and distri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s potential for collaborative groups to get more mileage fr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6368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iculum development, assessment, and 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26665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ANDARDS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NGLISH LANGUAGE A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ITERACY IN HISTORY/SOCIAL STUDIES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CIENCE, AND TECHNICAL SUBJ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2209680" y="990720"/>
            <a:ext cx="4648320" cy="1523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Logo-with-Band-Stretch-smal"/>
          <p:cNvPicPr/>
          <p:nvPr/>
        </p:nvPicPr>
        <p:blipFill>
          <a:blip r:embed="rId2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and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e main s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-5 (cross-disciplin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-12 English Language 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-12 Literacy in History/Social Studies, Science, and Technical Su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d responsibilities for student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teracy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e append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Research and evidence; glossary of key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Reading text exemplars; sample performance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: Annotated student writing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and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results rather than m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str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 (including Reading Foundational Skil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aking and List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tegrated model of lite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 skills blended through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Logo-with-Band-Stretch-smal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2:37:57Z</dcterms:created>
  <dc:creator>Lori</dc:creator>
  <dc:description/>
  <dc:language>en-US</dc:language>
  <cp:lastModifiedBy>Krista Sly</cp:lastModifiedBy>
  <dcterms:modified xsi:type="dcterms:W3CDTF">2011-10-17T18:10:01Z</dcterms:modified>
  <cp:revision>65</cp:revision>
  <dc:subject/>
  <dc:title>Investing in Sustained Improvement  presented by Ray McNulty, Senior Vice President and Todd Daggett, Director of Consulting Services  </dc:title>
</cp:coreProperties>
</file>